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7F6-7E03-4E21-9C56-B38BAA3B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7F0-8447-4890-B0E6-C87DAFC4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E7C-E41B-46A5-B655-DF9528A5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706-0758-40AC-9B33-80910F26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DEE2-6C7A-4FE2-8C57-96F7B9DC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3854-3813-4711-9EB3-18BE6A27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7C10-0552-4022-BCA5-BC01FB2F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8988-78F0-4148-80B6-0BC84DBF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2BB5-6E02-4866-937C-5FFDA62A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FEF9-ACD5-4E97-922E-9556E163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BE65-8A45-4E8B-A487-EBA293C9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0A1-11AB-4214-AB26-B6A203CD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CCE7-51B7-44CC-85D5-F1E79FFC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4EA9-1D11-4CD8-9352-E54C725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480F-B4D4-4E73-819C-A9D18E4D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17A0-15C4-40CE-855C-A6635877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C103-3FF8-4283-95C5-350BFAFF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EB1-8056-4ACE-AB33-4361C5D7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F46-4B80-45DF-BA70-2C446EF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C4A-2F73-4476-A47D-1D36DC87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ED6-34EC-44D1-96FB-70C7F1DF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471-5244-473E-89A6-65A65DA3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4D0-98E9-4572-9E63-47C2CDA6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3BB-39AF-4F28-99C5-9FF57455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E3776-8487-46F7-B900-1BF7AD11E2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92EA2-FA58-45E2-B0A7-C7E104CA3F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523880"/>
            <a:ext cx="71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, Mutual Marketing and a Common Approa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22780" t="16889" r="23890" b="27999"/>
          <a:stretch/>
        </p:blipFill>
        <p:spPr>
          <a:xfrm>
            <a:off x="990720" y="91440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6920" y="380880"/>
            <a:ext cx="78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workingincanada.gc.ca/welcome.do?template=ontario&amp;lang=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6669" t="17779" r="40557" b="10220"/>
          <a:stretch/>
        </p:blipFill>
        <p:spPr>
          <a:xfrm>
            <a:off x="0" y="685800"/>
            <a:ext cx="5867280" cy="6172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9443" t="31111" r="58890" b="14667"/>
          <a:stretch/>
        </p:blipFill>
        <p:spPr>
          <a:xfrm>
            <a:off x="5791320" y="1981080"/>
            <a:ext cx="2971800" cy="464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71137" b="2444"/>
          <a:stretch/>
        </p:blipFill>
        <p:spPr>
          <a:xfrm>
            <a:off x="6248520" y="129528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1752480" y="2513160"/>
            <a:ext cx="4114800" cy="244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33720" y="5103720"/>
            <a:ext cx="3809880" cy="11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52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2780" t="0" r="23334" b="5778"/>
          <a:stretch/>
        </p:blipFill>
        <p:spPr>
          <a:xfrm>
            <a:off x="1447920" y="0"/>
            <a:ext cx="627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1667" t="17779" r="23890" b="4447"/>
          <a:stretch/>
        </p:blipFill>
        <p:spPr>
          <a:xfrm>
            <a:off x="685800" y="38160"/>
            <a:ext cx="7467480" cy="66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1667" t="14988" r="22780" b="5387"/>
          <a:stretch/>
        </p:blipFill>
        <p:spPr>
          <a:xfrm>
            <a:off x="609480" y="228600"/>
            <a:ext cx="76201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4:56:00Z</dcterms:created>
  <dc:creator>alejandra bravo</dc:creator>
  <dc:description/>
  <dc:language>en-US</dc:language>
  <cp:lastModifiedBy>marco</cp:lastModifiedBy>
  <dcterms:modified xsi:type="dcterms:W3CDTF">2010-11-02T13:26:43Z</dcterms:modified>
  <cp:revision>80</cp:revision>
  <dc:subject/>
  <dc:title>Slide 1</dc:title>
</cp:coreProperties>
</file>